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29212"/>
        <c:axId val="56437462"/>
      </c:barChart>
      <c:catAx>
        <c:axId val="53029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37462"/>
        <c:crosses val="autoZero"/>
        <c:auto val="1"/>
        <c:lblAlgn val="ctr"/>
        <c:lblOffset val="100"/>
        <c:noMultiLvlLbl val="0"/>
      </c:catAx>
      <c:valAx>
        <c:axId val="56437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9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9E0-39DC-4710-820B-985EF274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796-6C9F-4EBF-B156-8263669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B06-6002-4175-8F53-1FEF293E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563-A6EC-4F8B-94E1-6550EF29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6B2-5C8C-4779-A078-2FAA631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B91-B2BB-4A5D-AAB8-1CE81EFB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514-45BF-4D6E-82D8-DB92854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065-85E7-4CFB-ACDE-6DAF9E5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4ED-0541-416B-943D-7FFADB6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A3B-BE58-424C-A90C-888DF14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E9A-2D2E-4AA6-A9E4-CEEDE28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60D-B218-4154-93C8-A5EBE00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CC08-70B4-4F9A-B6FD-1C52A9020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