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27714"/>
        <c:axId val="79932745"/>
      </c:barChart>
      <c:catAx>
        <c:axId val="61327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32745"/>
        <c:crosses val="autoZero"/>
        <c:auto val="1"/>
        <c:lblAlgn val="ctr"/>
        <c:lblOffset val="100"/>
        <c:noMultiLvlLbl val="0"/>
      </c:catAx>
      <c:valAx>
        <c:axId val="79932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27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2CB-0D40-48B5-8684-A751EC0C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0DF-00F8-491C-A325-5A9BA6E1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63C4-CEAD-4C12-81F5-0BE98037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CDEF-E60A-4263-89C6-A70BCEB6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F102-D7F5-44F3-A708-E76DA2D8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F606-7D6D-4487-8DB1-D46335F7D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077-320C-446D-8A1F-F6CF9582B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DDC3-66A8-4913-B8CD-86B3F4CF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DB6C-14F6-4B53-AE8A-70E01423F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39D5-BA90-47D6-97BD-A97151C1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F49-F626-4633-8937-C4C5D6B6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27AB-291A-4508-90AF-CFAEA3B2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21A5A-A18F-4481-8AC4-410037CF43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