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9596116"/>
        <c:axId val="50219170"/>
      </c:barChart>
      <c:catAx>
        <c:axId val="1959611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0219170"/>
        <c:crosses val="autoZero"/>
        <c:auto val="1"/>
        <c:lblAlgn val="ctr"/>
        <c:lblOffset val="100"/>
        <c:noMultiLvlLbl val="0"/>
      </c:catAx>
      <c:valAx>
        <c:axId val="5021917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59611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33667-C4CE-4F0C-B32A-DA497686B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F8795-00CE-4AC4-AA97-85D477DAD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034B1-ABA8-4F1B-8119-4564A7231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00B68-A917-4822-B942-469F1634F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52AF7-BE77-4470-A1B4-EDBE0112F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E59DB-FDEE-4C2D-A3C1-22AA6A2F6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922DB-D3CE-4151-BAB5-D2F11C808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6F021-0CFD-440E-9E1F-EA30D40DB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5624B-B674-4D88-B7E4-89DE54556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1363A-C5BD-4D13-8D57-CA2600391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44476-BCD9-40ED-B8B3-185E3CBDB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DE53B-6EBD-40FB-B094-A47977009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07486D-8622-4C68-BCF2-DD4231EB2CA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