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84996"/>
        <c:axId val="8382075"/>
      </c:barChart>
      <c:catAx>
        <c:axId val="20484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2075"/>
        <c:crosses val="autoZero"/>
        <c:auto val="1"/>
        <c:lblAlgn val="ctr"/>
        <c:lblOffset val="100"/>
        <c:noMultiLvlLbl val="0"/>
      </c:catAx>
      <c:valAx>
        <c:axId val="8382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4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8B1-F292-46C1-90B9-C14F85D1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D33-5890-4013-91BE-E24B902D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FB5-CDD8-4224-AEFA-E2EF0CD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18D-2D46-4D8D-AE22-1901A937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55A-61C0-4275-B966-17D58C18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5D9-E2C2-42B8-AE09-70948B34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287-8ED1-4D8F-8787-7F47319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9CA-6858-4C58-A63A-1E01276A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EB7-488B-48B5-A468-3F1CDFC7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F19-683A-44B6-97F3-CC5C9B3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0B2-48E7-44E6-B3A3-2252404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928-1988-4E91-A06C-410F16C1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37933-F2D0-481F-A42E-EE5A82C5E1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