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82266"/>
        <c:axId val="17228802"/>
      </c:barChart>
      <c:catAx>
        <c:axId val="56182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8802"/>
        <c:crosses val="autoZero"/>
        <c:auto val="1"/>
        <c:lblAlgn val="ctr"/>
        <c:lblOffset val="100"/>
        <c:noMultiLvlLbl val="0"/>
      </c:catAx>
      <c:valAx>
        <c:axId val="17228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2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943-8433-4246-B7FB-AC6BB212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86C-1158-44A2-88C6-0F382C0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AE2-0A0D-4AE2-A0FE-10A76985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93C-C834-4B2A-A23B-2B8D300C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B1D-5D3B-42BD-9F17-29EB1BAD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CA0-8166-4237-87B9-45A9756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745-4BBF-4483-A618-DC4053E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FC2-04E1-4D34-BE3E-5F3E8674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DC3-2FE5-4C08-84CD-89A8FED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45-18A4-403A-B4CD-DD3C501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B8F-AD54-44F4-977D-683B8EB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E4F-770D-487D-B607-72C58DA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BECE-61F4-4F39-A09A-FC09A3D40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