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70962"/>
        <c:axId val="43224357"/>
      </c:barChart>
      <c:catAx>
        <c:axId val="80970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24357"/>
        <c:crosses val="autoZero"/>
        <c:auto val="1"/>
        <c:lblAlgn val="ctr"/>
        <c:lblOffset val="100"/>
        <c:noMultiLvlLbl val="0"/>
      </c:catAx>
      <c:valAx>
        <c:axId val="43224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70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86C-E0D5-4B2D-868C-AFB5279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950-EA3F-4C27-83C3-0B77F4D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F1A-D484-4388-ABF5-94FE641A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E57-35B1-4694-97A3-084593BE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C31-EA8E-4E99-A91D-06B8415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5AC-3D8D-41A0-86E7-6A0ECD5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A5E-E1F8-4877-A677-6976A15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1E1-71BB-4CF7-9A8A-B1E2AF8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724-53FE-476D-A172-812964E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192-45F2-4290-9647-5DCF06B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D8E-0860-4FB3-BD2D-4B879FA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F7E-186E-45A3-9E3E-1838339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78539-C033-4990-A27D-5B0D05020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