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05306"/>
        <c:axId val="42180823"/>
      </c:barChart>
      <c:catAx>
        <c:axId val="76705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80823"/>
        <c:crosses val="autoZero"/>
        <c:auto val="1"/>
        <c:lblAlgn val="ctr"/>
        <c:lblOffset val="100"/>
        <c:noMultiLvlLbl val="0"/>
      </c:catAx>
      <c:valAx>
        <c:axId val="42180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05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45B-5A2C-46D0-A74B-B80EBB4A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7A0-0BF1-4356-8996-2E0789FD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BA4-0937-485E-B930-B10E96D7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FC7-38AD-47AA-A220-BE3C3C60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300-74C3-4621-B464-C87B5536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726-EA52-4A25-A3F8-146B0738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263-0FE3-4717-82CA-87F93DE0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8A0-0407-440A-8EEA-5BF6904F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E8A-2A15-4A0D-ACA3-62C474DA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71C-FE5B-4C8F-9DBE-BADB72B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DF0-F37D-4924-807F-FD961024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665-1147-464F-AF66-F39B8BAA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057DF-682B-41DF-BFDC-E428B71CD7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