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109224"/>
        <c:axId val="60058582"/>
      </c:barChart>
      <c:catAx>
        <c:axId val="921092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58582"/>
        <c:crosses val="autoZero"/>
        <c:auto val="1"/>
        <c:lblAlgn val="ctr"/>
        <c:lblOffset val="100"/>
        <c:noMultiLvlLbl val="0"/>
      </c:catAx>
      <c:valAx>
        <c:axId val="600585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1092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AF85-54F4-4DDF-AB0C-F9600D1EF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A21B-468D-4A0B-B432-7E166A3A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7D7E-9364-4464-9ACF-68B7057D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175B-F669-49FB-B24A-4218045A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8AC-2D67-4A97-8D9C-94F4A746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716-BB7A-455A-B87B-883C5AE7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0E8-9B8B-4469-AB2B-46128911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4E02-0A4C-4AB9-9382-2DD85936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D60-4FFA-4AA2-AF8C-7123066F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C62B-33B3-4A13-BFFA-8D12CBFA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6D5F-2565-44F3-9915-4B15185E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657-B930-4EA4-8970-77D66C13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7978F-9E4A-4660-90AD-188107849A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