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88280"/>
        <c:axId val="65592059"/>
      </c:barChart>
      <c:catAx>
        <c:axId val="26288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92059"/>
        <c:crosses val="autoZero"/>
        <c:auto val="1"/>
        <c:lblAlgn val="ctr"/>
        <c:lblOffset val="100"/>
        <c:noMultiLvlLbl val="0"/>
      </c:catAx>
      <c:valAx>
        <c:axId val="65592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88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3AE-4681-410A-B573-9A49D487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1C1-B333-4672-A044-F9A10040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FD2-E87C-46B4-891D-B5C2BA86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CDD-3C62-47A1-82B4-DC9EACA5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CDA-AF0E-427E-AFFC-36B99DCA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D70-7EE3-4626-80CA-FAEBE7AE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F71-8ED7-44BE-AEE0-941992A6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2FB-BA43-437B-8192-5E759EBF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E20-54C9-4621-BCC2-3C556BB6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7F0-B056-4706-8F7C-B1E58AEB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AFB-0D42-4B7E-AD6F-65D5D2C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B66-F163-41F5-BF0D-020927B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08F5A-15A3-45B6-83EE-B261161A10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