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78302"/>
        <c:axId val="60068206"/>
      </c:barChart>
      <c:catAx>
        <c:axId val="78478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68206"/>
        <c:crosses val="autoZero"/>
        <c:auto val="1"/>
        <c:lblAlgn val="ctr"/>
        <c:lblOffset val="100"/>
        <c:noMultiLvlLbl val="0"/>
      </c:catAx>
      <c:valAx>
        <c:axId val="60068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78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2193-3CD7-42EA-9EB8-A8F1CD5C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CD57-4BC1-4A69-8B67-18124760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82A-13D4-4120-8438-5247DD4F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CE1-C3B7-40AA-9FF3-00EF1850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EF04-16F2-4026-B5F4-FD4BEF03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3FC-365D-42DF-A209-E8F120E8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1D48-C5DD-45EA-A5B5-0CA7B938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780-146F-4306-B1DC-2535CF29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6C97-C98D-48B9-9F4F-733F5EA5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521-299F-4D28-8804-B866477E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B55F-2DDC-42F5-B4E3-0C62BBB7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E63-4E97-46E7-8BE6-0F69F984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9BFEE-48E2-4750-9861-56C500D854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