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81184"/>
        <c:axId val="27396126"/>
      </c:barChart>
      <c:catAx>
        <c:axId val="70481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96126"/>
        <c:crosses val="autoZero"/>
        <c:auto val="1"/>
        <c:lblAlgn val="ctr"/>
        <c:lblOffset val="100"/>
        <c:noMultiLvlLbl val="0"/>
      </c:catAx>
      <c:valAx>
        <c:axId val="273961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81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3A92-CF51-49AE-9B02-25B7861F1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E83-FDC3-48F4-8114-874E29FA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6B6-9120-45ED-A7EC-5709F9161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7B53-D03F-4763-BAE3-DAD4FA39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70A-5132-448F-A370-72E980B87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DE99-882F-4EDC-826C-8CAAF944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73E-5999-4086-BE42-A4FC0770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D4EA-57E0-450E-B9F1-C449A1D16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988E-39EA-4BF4-84CC-7704E0FE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C4BC-B48A-4F62-879A-A5C87F98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2B3-39F0-4C84-8506-2DEB1058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8E7A-D9DE-4AF5-A64D-A2FD4CA7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4F658C-3CB6-4104-8EC1-3FB724C41AD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