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41070"/>
        <c:axId val="30747529"/>
      </c:barChart>
      <c:catAx>
        <c:axId val="59441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47529"/>
        <c:crosses val="autoZero"/>
        <c:auto val="1"/>
        <c:lblAlgn val="ctr"/>
        <c:lblOffset val="100"/>
        <c:noMultiLvlLbl val="0"/>
      </c:catAx>
      <c:valAx>
        <c:axId val="30747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41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C8A-6140-45A3-90A8-C141DB42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ACC-F8D8-4EF7-B612-376731BC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696-A80D-4191-BD5A-14CD0D92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6F6-55D2-48EE-9120-05416477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CB9-5C9D-46D0-BF97-6C615B0A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3A5-51EC-4808-828C-C1875069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173-C164-4E94-9859-FAC8099B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0AD-EADC-4165-8EEB-CCA29543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1D1-D46F-4761-93C5-3C9F340E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7AD-7764-40A7-9DB4-EF7E71C0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27B-6A15-44E0-B958-555979AE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138-C40F-4058-A9C6-49DC8B9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156D6-AC25-4509-930E-7095B0E3AF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