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60267"/>
        <c:axId val="84228305"/>
      </c:barChart>
      <c:catAx>
        <c:axId val="85060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8305"/>
        <c:crosses val="autoZero"/>
        <c:auto val="1"/>
        <c:lblAlgn val="ctr"/>
        <c:lblOffset val="100"/>
        <c:noMultiLvlLbl val="0"/>
      </c:catAx>
      <c:valAx>
        <c:axId val="84228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0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0B6-7C75-47E8-BC9C-500822A4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1A4-6C66-44AC-8285-74CEDCD0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AAC-A680-4C9D-B164-187E7B65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5DD-5D6E-4A3C-BB2B-D1DFE135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1B0-7F32-47B6-B01B-FC643EA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3E3-0881-4528-8EE8-F9E297F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45E-D79F-4CAC-A873-2425613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D44-B207-4F93-A24F-126EB5B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2A8-BC10-44E0-B363-A122979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414-D5EE-4137-BD28-513F792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EB2-D574-4306-825A-B672C3D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F9D-FDC8-4D69-A670-9829FD9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83107-8529-44FE-B0F5-D6CA61A2D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