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05632"/>
        <c:axId val="23814635"/>
      </c:barChart>
      <c:catAx>
        <c:axId val="18705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14635"/>
        <c:crosses val="autoZero"/>
        <c:auto val="1"/>
        <c:lblAlgn val="ctr"/>
        <c:lblOffset val="100"/>
        <c:noMultiLvlLbl val="0"/>
      </c:catAx>
      <c:valAx>
        <c:axId val="23814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05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93E-943D-4918-9093-84F3BB64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F23-4119-4D26-B93C-63CEC2B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13C-5D81-44E4-8102-F607903B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FCD-B104-451B-BE7D-FB8E1981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0E0-60FE-423B-8AF5-3BE3F6F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5FB-0DC6-4275-80DB-B6F15BDE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8A9-A1B8-4483-A0DE-097A1EB4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4DD-0FAC-4F7F-BA7A-27A98E8F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4C0-E6DF-43BA-99EC-7CAFB74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29F-3036-4D4E-BDC8-3B379BA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0CF-D72C-4AE2-8E92-1BBCD13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05F-FA8F-49E0-A927-C2695C3F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FD8B5-40E1-4300-9FD9-05D19FDE2E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