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64404"/>
        <c:axId val="53538720"/>
      </c:barChart>
      <c:catAx>
        <c:axId val="4466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8720"/>
        <c:crosses val="autoZero"/>
        <c:auto val="1"/>
        <c:lblAlgn val="ctr"/>
        <c:lblOffset val="100"/>
        <c:noMultiLvlLbl val="0"/>
      </c:catAx>
      <c:valAx>
        <c:axId val="53538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6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90F-41E0-408B-95B7-458F142D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BCF-25BC-4193-BA71-26D11D4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172-479F-4B99-981F-FD302B04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C11-58C7-4733-BBCC-69C8E14C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440-CAEA-4960-B468-C0804899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523-0F4D-41A6-AD5F-E02C6AF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72-F89F-4A37-AF0A-7155C918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577-9468-4108-9050-3F2650C9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7D1-38B4-41B6-A820-061AC9C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C39-B4AB-4805-8853-4381FA5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3C7-A1E2-4350-B016-A3532479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8A4-AF5A-4021-A656-88EC6D4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086ED-F3D2-4C83-AF6E-95CC4C8A0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