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79780"/>
        <c:axId val="71563084"/>
      </c:barChart>
      <c:catAx>
        <c:axId val="23779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63084"/>
        <c:crosses val="autoZero"/>
        <c:auto val="1"/>
        <c:lblAlgn val="ctr"/>
        <c:lblOffset val="100"/>
        <c:noMultiLvlLbl val="0"/>
      </c:catAx>
      <c:valAx>
        <c:axId val="715630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79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0E8-498C-4A87-AFB2-CC597D95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7F1-A52D-476F-A5BA-45AAB062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E09E-8BCF-4AF9-BCA2-7A52FF9E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A95-A91A-4A41-A61A-D1C5DC4D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437-73E3-4E5D-A685-E77D81D3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59BB-2D3C-4532-B298-D607CA60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F9F-E8A7-4513-819A-B960F807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AFFF-9B9F-48FD-8793-A1EF74DB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41D-7621-42F3-B37C-822E9CC2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DF4-8BB2-447A-AAEB-1447A679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6E4F-30FF-4457-9EC5-AED94E02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C91-11CD-4BCC-A75B-31DA79AC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81AA5-DA92-45B1-8B75-B80F9AA36F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