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658755"/>
        <c:axId val="1923310"/>
      </c:barChart>
      <c:catAx>
        <c:axId val="986587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23310"/>
        <c:crosses val="autoZero"/>
        <c:auto val="1"/>
        <c:lblAlgn val="ctr"/>
        <c:lblOffset val="100"/>
        <c:noMultiLvlLbl val="0"/>
      </c:catAx>
      <c:valAx>
        <c:axId val="19233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6587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D71C-6C7B-40F1-AF53-16826616D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C08D-EA87-40C8-8E5F-2E0D57914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C09F-8E5D-450C-9B04-529560E71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E855-1E5B-4460-A010-EB2EB4D56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A0AA-40E4-4D84-9D12-468A62042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34C6-889B-4DFE-9157-773F05BC8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B6E3-6610-46D3-AD84-0BAA38CC9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FDCE-8587-4738-8583-969523542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AC87-D429-4753-90F1-429AC5E2A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8B07-F82E-4930-B091-EC0B0E314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B43C-2830-442A-AD33-EA41E664F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0AF8-A63D-422C-9CC0-612F7DF4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49B675-FD2A-44A9-B5E4-FD250AB1426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