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96825"/>
        <c:axId val="90646689"/>
      </c:barChart>
      <c:catAx>
        <c:axId val="80196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46689"/>
        <c:crosses val="autoZero"/>
        <c:auto val="1"/>
        <c:lblAlgn val="ctr"/>
        <c:lblOffset val="100"/>
        <c:noMultiLvlLbl val="0"/>
      </c:catAx>
      <c:valAx>
        <c:axId val="90646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96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447-2AB4-4D64-B87E-6676F5B3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C7E-16A9-47C6-9EA8-A83E879D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B8B-C20D-4565-A993-64614905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B2F-0FFF-47C9-94CE-26066ABE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B76-D2ED-4CCB-900F-0056B7C1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19A-19AA-4B3B-823B-AD7CA0F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602-026B-4E83-8ADC-8EE9DE61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665-1783-41B9-BA06-B4432FAD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144-ACE6-4C21-B66A-E55D4EA5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40B-B49F-4543-8BC4-2D9C2B1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F52-4AE7-4D30-A7F4-D1C0955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C23-16C9-4536-AC9B-503629B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E463-D46E-4F73-B83A-5C81972046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