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92419"/>
        <c:axId val="39814412"/>
      </c:barChart>
      <c:catAx>
        <c:axId val="87092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14412"/>
        <c:crosses val="autoZero"/>
        <c:auto val="1"/>
        <c:lblAlgn val="ctr"/>
        <c:lblOffset val="100"/>
        <c:noMultiLvlLbl val="0"/>
      </c:catAx>
      <c:valAx>
        <c:axId val="39814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92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FE9-15F9-4823-886E-1429715A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028-6480-4AE1-85B0-A4C1F15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C8F-6F4A-4918-8D27-6A2C221D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86A-F5C4-4B2B-A284-3AB35AAD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B60-291C-4C7F-B1FD-5D8D1E6E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C65-22B9-493C-BB6D-E70F6FC4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AE5-8B3E-42D7-B187-539B6459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89B-2168-4606-B1B5-6D7F9D6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742-1B1F-49B9-9A33-80E2C38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59A-D90B-4EA0-BB4A-1C494F7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DB7-8841-4290-9501-71770F7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EDA-F8AE-4E1A-AE2D-E3AE8CC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34BDD-E3A6-46CB-BA08-2F2E8316A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