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615922"/>
        <c:axId val="12184146"/>
      </c:barChart>
      <c:catAx>
        <c:axId val="20615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84146"/>
        <c:crosses val="autoZero"/>
        <c:auto val="1"/>
        <c:lblAlgn val="ctr"/>
        <c:lblOffset val="100"/>
        <c:noMultiLvlLbl val="0"/>
      </c:catAx>
      <c:valAx>
        <c:axId val="121841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15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1E6-5F19-4397-9587-81836486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AB7-A60A-4CEC-8946-305014C0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2384-EC8E-487C-85D4-1371110A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DEE6-01E4-4394-9146-E3210483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B96-3565-41D4-9B86-360CC549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9BD-65BF-4C57-B3FB-0EC9E00B1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AB6A-C40E-4BEE-9788-5253F89C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F1B4-E420-483F-8F50-287D770A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1231-ED01-4047-A447-74DE9FD69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56C9-B48F-4C0B-BABF-B97552E9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1D51-2A7A-425B-91FA-CA57A037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F9B-DC26-49BD-A6B0-F8C28AFA6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8701A-82ED-45FB-8EA6-3039711629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