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95146"/>
        <c:axId val="37973697"/>
      </c:barChart>
      <c:catAx>
        <c:axId val="6629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73697"/>
        <c:crosses val="autoZero"/>
        <c:auto val="1"/>
        <c:lblAlgn val="ctr"/>
        <c:lblOffset val="100"/>
        <c:noMultiLvlLbl val="0"/>
      </c:catAx>
      <c:valAx>
        <c:axId val="37973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9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125-E4DC-4166-976A-74EBD50A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AB5-6673-495E-8630-433DACD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99E-17D5-464E-9A81-E21066AA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D42-E147-4DC3-960D-5CDF0F82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14D-A883-42AB-ADD1-7B6ABCE5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9BD-3F74-46F0-9626-C95FF002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09A-4C0F-4B01-9574-571B4EEE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960-C12C-45A7-A965-B7C90149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5F9-20C0-45CB-9BF0-5466E64C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698-7E20-4D0A-AF60-5AAE32E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351-659A-4CD3-B36A-E1F686C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E0B-020D-4110-8836-3F3AE09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B2BC9-F8A7-49E9-9741-91DBCB2A90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