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50670"/>
        <c:axId val="71785800"/>
      </c:barChart>
      <c:catAx>
        <c:axId val="8305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85800"/>
        <c:crosses val="autoZero"/>
        <c:auto val="1"/>
        <c:lblAlgn val="ctr"/>
        <c:lblOffset val="100"/>
        <c:noMultiLvlLbl val="0"/>
      </c:catAx>
      <c:valAx>
        <c:axId val="717858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5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0F8-57AB-4491-8A31-EF6417E6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200-5728-4014-A328-DB3FF044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24FB-4AF6-4AC5-830D-9C406338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860-8F96-48A3-B1CF-867178D3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E6E-0C2B-42C2-8D54-CC03C62C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176-D9E5-4390-8FB6-D478090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6FF0-5BDC-47AC-B975-35DA68EB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19B-F3C8-4177-A204-68CFDA7B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C1F-899A-491A-8F47-E6C9F6B8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745-9CCA-49C9-9210-2835DF5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A672-7C26-4107-8960-CDB5A6F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203-2C34-4BA9-B631-80F43082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BD554-12B8-41AD-B7AD-D20A11F7B2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